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f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2ABE-71A7-4643-9906-00E468A61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C84E-5E2B-4D28-BEF2-F6848F36AE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5016-2A7C-4116-9655-202D2A95F0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DB27-CBB9-41E5-9906-77D5473F02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E2B8-8C1E-47F7-A76E-1E4B6CBF1E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2BC1-B924-4F59-814C-753C0B1F58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0719-2EDC-405E-A22E-A82ADE4932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AFA7-8151-4F99-94E9-165D864A7F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64E3-1688-4DB5-82B0-FF570A72C8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BFFA-CED6-4F7B-9C13-B4DCAABDF2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02252-3BAE-4051-9EDF-C83C359865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0ED9B-85C5-49F5-966C-5A19F1BE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2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724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EDAB4-F9F6-4245-806B-A32D0BAD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260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836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260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836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0CDA-2F4C-42A8-98E4-EB159DDF3A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2BB78-92F4-4F04-98FC-4A2747F72D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AE7CC-9F33-47ED-866E-166E53E4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8E127-CCF3-4429-801F-37E9E29B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5724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EF61C-E6EA-41A1-9DB4-B4F8D512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55AAA-9AE6-4ADD-B07F-A1812FA2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19F90-B62B-4980-A643-3AA03BF7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724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81E39-E7BF-486A-952C-9F6C01B6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A4AA-EC76-406E-9113-CBFF204D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72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24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8DC49-E3A0-4A75-87E8-FA63FE85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2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A8B57-BAF8-4BE2-ABFE-972E689E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B351A-DCA3-48EF-A81D-522B9120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2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724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C297C-F3AB-4836-8F1E-4C062AEB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260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6836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260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6836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5DE9F-64ED-47F8-A70C-81CC7530EE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FBD5B-4A29-40DE-BB80-8228C364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724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FF109-3D88-4F42-82AB-2096063B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A64EA-C48C-4C0F-B682-7DFD8BE8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D43C9-CD77-4899-938C-7DA7B377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724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59199-FA2B-4B59-9ED2-FB149CCC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72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724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AA8CF-3A9C-4009-842C-229EC079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724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DDB61-077B-499C-8DCA-4CDDBC21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motionblur1inside"/>
          <p:cNvPicPr/>
          <p:nvPr/>
        </p:nvPicPr>
        <p:blipFill>
          <a:blip r:embed="rId2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f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901"/>
              </a:spcBef>
              <a:buClr>
                <a:srgbClr val="ff7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901"/>
              </a:spcBef>
              <a:buClr>
                <a:srgbClr val="ff7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901"/>
              </a:spcBef>
              <a:buClr>
                <a:srgbClr val="ff7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924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3651-E08F-4C84-B95E-FD27915E0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732720" y="62596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e5e56"/>
                </a:solidFill>
                <a:latin typeface="Times New Roman"/>
              </a:rPr>
              <a:t>your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motionblur1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6732720" y="62596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e5e56"/>
                </a:solidFill>
                <a:latin typeface="Times New Roman"/>
              </a:rPr>
              <a:t>your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f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901"/>
              </a:spcBef>
              <a:buClr>
                <a:srgbClr val="ff7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901"/>
              </a:spcBef>
              <a:buClr>
                <a:srgbClr val="ff7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901"/>
              </a:spcBef>
              <a:buClr>
                <a:srgbClr val="ff7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2053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3995280" y="62053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6B76-BB1F-4A02-AE54-96A0D4C8C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7f00"/>
                </a:solidFill>
                <a:latin typeface="Arial"/>
              </a:rPr>
              <a:t>Integers and the Number Line</a:t>
            </a:r>
            <a:endParaRPr b="0" lang="en-US" sz="80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Which way do I go?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3995640" y="6205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5775-7978-4124-A533-0E6C8E503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04- Blue Train - Zaire.wav" descr=""/>
          <p:cNvPicPr/>
          <p:nvPr/>
        </p:nvPicPr>
        <p:blipFill>
          <a:blip r:embed="rId1"/>
          <a:stretch/>
        </p:blipFill>
        <p:spPr>
          <a:xfrm>
            <a:off x="9907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f00"/>
                </a:solidFill>
                <a:latin typeface="Arial"/>
              </a:rPr>
              <a:t>Constructing a Number Line</a:t>
            </a: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number line is drawn by choosing a starting position, usually 0, and marking off equal distance from that poi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6965-8DA8-4F45-B8E2-E86C2CBB6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870360" y="5222880"/>
            <a:ext cx="38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though only a portion of the number line is shown, the arrowheads indicate that the line and the set of numbers contin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F182-1364-48A9-8DD6-3E92DB6C40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C:\bob's mess\number line.jpg"/>
          <p:cNvPicPr/>
          <p:nvPr/>
        </p:nvPicPr>
        <p:blipFill>
          <a:blip r:embed="rId1"/>
          <a:stretch/>
        </p:blipFill>
        <p:spPr>
          <a:xfrm>
            <a:off x="2438280" y="685800"/>
            <a:ext cx="64008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et of numbers used on the number line is called the </a:t>
            </a:r>
            <a:r>
              <a:rPr b="0" i="1" lang="en-US" sz="3600" spc="-1" strike="noStrike">
                <a:solidFill>
                  <a:srgbClr val="ffffff"/>
                </a:solidFill>
                <a:latin typeface="BroadwayD"/>
              </a:rPr>
              <a:t>set of integ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set can be writt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{…, -3, -2, -1, 0, 1, 2, 3, …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F50A-CE35-418A-86E2-D87067316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number line is made up of 3 sets of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7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numbers 1, 2, 3, 4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7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le numbers 0, 1, 3, 4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7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ers …, -2, -1, 0, 1, 2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0B6E-8848-4840-921D-533E4C24EA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819160" y="9907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can use a Venn Diagram to represent thee 3 sets of numbers and their relationship to one ano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EBF7-480A-4640-8DB4-AE68EF16E4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C:\bob's mess\venn diagram.jpg"/>
          <p:cNvPicPr/>
          <p:nvPr/>
        </p:nvPicPr>
        <p:blipFill>
          <a:blip r:embed="rId1"/>
          <a:stretch/>
        </p:blipFill>
        <p:spPr>
          <a:xfrm>
            <a:off x="3733920" y="3276720"/>
            <a:ext cx="42670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should not include the number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should not include numbers less than 0 (negative number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should not include the number 6 or any hig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6BFC-484C-4830-A059-40FEC65F37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5" descr="C:\bob's mess\example1.jpg"/>
          <p:cNvPicPr/>
          <p:nvPr/>
        </p:nvPicPr>
        <p:blipFill>
          <a:blip r:embed="rId1"/>
          <a:stretch/>
        </p:blipFill>
        <p:spPr>
          <a:xfrm>
            <a:off x="2514600" y="304920"/>
            <a:ext cx="61563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684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itive numbers move to the r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gative numbers move to the lef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3 + (-8) = 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A01C-E320-4C2D-8F61-AE9D0FAF4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5" descr="C:\bob's mess\example2.jpg"/>
          <p:cNvPicPr/>
          <p:nvPr/>
        </p:nvPicPr>
        <p:blipFill>
          <a:blip r:embed="rId1"/>
          <a:stretch/>
        </p:blipFill>
        <p:spPr>
          <a:xfrm>
            <a:off x="2133720" y="228600"/>
            <a:ext cx="6608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f00"/>
                </a:solidFill>
                <a:latin typeface="Arial"/>
              </a:rPr>
              <a:t>In Summary</a:t>
            </a: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F6A8-D74B-4762-81EA-389DA411D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4" descr="C:\bob's mess\integer line.jpg"/>
          <p:cNvPicPr/>
          <p:nvPr/>
        </p:nvPicPr>
        <p:blipFill>
          <a:blip r:embed="rId1"/>
          <a:stretch/>
        </p:blipFill>
        <p:spPr>
          <a:xfrm>
            <a:off x="2590920" y="1676520"/>
            <a:ext cx="6315120" cy="2236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bob's mess\natural numbers.jpg"/>
          <p:cNvPicPr/>
          <p:nvPr/>
        </p:nvPicPr>
        <p:blipFill>
          <a:blip r:embed="rId2"/>
          <a:stretch/>
        </p:blipFill>
        <p:spPr>
          <a:xfrm>
            <a:off x="2971800" y="4191120"/>
            <a:ext cx="55292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/>
  <dc:language>en-US</dc:language>
  <cp:lastModifiedBy>Home</cp:lastModifiedBy>
  <dcterms:modified xsi:type="dcterms:W3CDTF">2010-11-14T17:29:39Z</dcterms:modified>
  <cp:revision>12</cp:revision>
  <dc:subject/>
  <dc:title>PowerPoint Presentation</dc:title>
</cp:coreProperties>
</file>